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362-4DC0-47A2-961D-95FDCB36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104-A60A-48AC-A511-CA2487A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A9B-230D-4735-B373-760A3B3B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582-95D5-4DCE-9A90-DB347DF7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B75-E609-41ED-A790-7294D8AA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FC1F-D36C-4A07-A039-A8D56E97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7DEA-E5AA-4671-8758-09BE4F1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2F97-AD57-4687-B2AD-4723F457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DF5F-88A8-4852-A00E-E0096286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0B25-555A-499C-A3B5-1D14D907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783C-9456-49A5-9BF1-F4E6E0D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A52-B693-4577-A40D-3332CD6A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6A9E-D405-4729-93FC-F68F741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A73-F68C-4C75-8027-A0EEEC3E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FD43-7F1C-44C7-8C8E-325D458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1DE-E320-4ED7-9347-B9240A15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FC8-5E14-414B-8C80-331EC594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0A1-8F4B-4D51-AB9C-1F2471B5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106-FAC0-4872-849F-CF27D312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05A-3D25-47FB-BB64-C4727C1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3F6-3B46-47CD-A01D-A3DAF753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105-C1D9-44DC-98BE-17725B0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7F3-EFAD-4629-8B05-12CD2B90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95F6-9179-4647-9AEC-6CC24101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409E-1DA6-4396-A297-C4BA4F2747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258-DF23-40A9-977E-CA839AF93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ревнегреческий Ликей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6675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льгельм Кюхельбек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90800" y="1066680"/>
            <a:ext cx="518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ван Пущин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981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238720" cy="6096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981080" y="609480"/>
            <a:ext cx="5238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4920" y="39996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1T14:26:58Z</dcterms:created>
  <dc:creator>1</dc:creator>
  <dc:description/>
  <dc:language>en-US</dc:language>
  <cp:lastModifiedBy>1</cp:lastModifiedBy>
  <dcterms:modified xsi:type="dcterms:W3CDTF">2018-12-07T19:59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